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move the slide</a:t>
            </a:r>
            <a:endParaRPr b="0" lang="en-US" sz="5000" spc="-1" strike="noStrike">
              <a:solidFill>
                <a:srgbClr val="d2d2d2"/>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8A00-7D94-46C6-A8F8-37C5C577E1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8544-83B1-4730-80C6-4A17DD346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B16F-2078-41A9-8645-47CE686D6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22B9-AAC5-436F-81B6-4970101E9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BBC4-B246-426E-BE3A-D4D9ABB25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510F-DA7B-4D70-9836-1D116C90D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BDFE-C32D-4FCB-B564-29D2F38DE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E64F-C69A-4007-BD41-F953BE6F9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CD38-7834-476A-BBCC-C86CEDB6F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5224-A7F1-4637-BA7B-0B192316C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068A-0FAD-409B-B4F3-CC68F36DD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DE89-83BF-4D60-A9AC-0FA9D92F1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084C-E3D8-44EC-89B4-6CDA8C0AF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08F6-5D44-45EB-B708-20210B5EB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B604-A528-43E5-99EB-0F56B3960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EB6C-A809-44FB-85EE-272AC462A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AD2C-2CB6-419A-BAF7-31455F6AA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914D-E9D0-4922-85DD-C0A7A5929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0973-C3A2-43FD-88B9-5288AC551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31C9-C98F-4A91-B307-A295027E7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524E-C951-4DE7-9322-9E99EDED3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169C-9FD7-4FDD-8FC0-A4785A8F2B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7F49-1356-43C1-84E9-C532FA12D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4A5C-6F28-4624-9E47-582284DE9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27712-D6E1-49A5-AF05-E6D28BA81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DA243-4C12-4D12-8436-8A6E7033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7957C-25B3-4047-B04F-BE80AFC63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AD01F-8B65-466B-B2B5-2A3AFF1E4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D8CD3-C96B-4868-9B87-AFD2A67EA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4CCCB-BC59-4C44-B2ED-DD34FB99C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388CD-2EA6-4817-A4D7-1B53339D6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5EE3F-9F41-4283-AEAA-63A8D479B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A85A3-BC28-4362-96A2-7F51364B2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F05EA-3FD4-4CEA-8534-ABCF2CFA9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A8D1B-5B2A-4A7F-A15F-69C37EE78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00B9A-C1D5-4785-89BB-5645C0C8F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369DC-40C1-4A4D-A15E-E7CEF461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9397C-5E79-41DD-81A9-0A073AE3B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8CB20-04E9-48C3-A929-B7B655BA7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CCA92-C7B4-431B-BD37-C24C10ADD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A5089-3871-4750-9E67-49F4E9A07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DD7997-9AB9-4014-9947-4BC2FAE2CE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56DB90-5120-44E0-87FF-792B02247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B1055-F644-4641-965B-F5FEB55B2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08548-B5F9-47F3-B96D-9CDF258A4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3EBA9-0767-409F-8C25-6C5101EE29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AD93D-96A0-40E8-9438-8ECF24F1E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7246C9-F50D-4EAE-89B4-314D00C90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4146C-C217-45BF-A8C9-72D7BBF1D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73BB8-73A7-452A-A75C-072B39A6C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D0E63-7E5A-4AD2-9185-472B51A46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0716B-FE81-41E6-9122-07DFA4F86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CA7BE-4D7F-4331-B354-6F69C6C6C3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0220AE-1CA1-4CE4-BF9F-42DF303723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65997-F2C4-4520-B1A7-51B39864EE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AE4243-126B-4C00-B3BC-FA13696A2F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D3062E-5166-4760-BF5B-ED90C619E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4CED2-60D7-4896-A509-E02016C40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5732B-706C-4587-9664-0C07EB0F6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189A13-7634-4FFF-A79A-A134B303B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64E19-68DA-4F82-82F7-D31D13EC7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148E7-B1B4-4B2E-B273-54E68809F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EDB22-AA5D-4438-9CF4-DCE68E39F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35D2A-0707-4D33-89EC-58D73A161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183C9-CFEB-40A2-85E1-1A2EDFA27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B32B51-410A-4BAF-87E0-5022BE5E8A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40453-D8F4-4F6D-8164-6F11B972C7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F1623-CF35-4704-9A7E-44D51C1CE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CC1D6-EFDE-4537-B885-3CAC9F9A4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A735-263D-4D70-86DD-41AC15DCE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8C76-5D63-4D29-A5F8-60447C3BF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B5222-1B3B-4B02-B1F7-4763E6D66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E8E9-1664-40D6-9C3C-F23AE811B052}" type="slidenum">
              <a:rPr b="0" lang="en-US" sz="1200" spc="-1" strike="noStrike">
                <a:solidFill>
                  <a:srgbClr val="616161"/>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8811-DB83-42E9-BC8D-D89ACA740CCF}" type="slidenum">
              <a:rPr b="0" lang="en-US" sz="1200" spc="-1" strike="noStrike">
                <a:solidFill>
                  <a:srgbClr val="c8c8c8"/>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CC11-1CC1-4DD8-A769-49D5455BAE6E}" type="slidenum">
              <a:rPr b="0" lang="en-US" sz="1200" spc="-1" strike="noStrike">
                <a:solidFill>
                  <a:srgbClr val="c8c8c8"/>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prstGeom prst="pie">
            <a:avLst/>
          </a:pr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prstGeom prst="pie">
            <a:avLst/>
          </a:pr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C471-B428-4DB5-B86B-A325BB85F55D}" type="slidenum">
              <a:rPr b="0" lang="en-US" sz="1200" spc="-1" strike="noStrike">
                <a:solidFill>
                  <a:srgbClr val="61616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wrel.org/scpd/sirs/2/cu3.html" TargetMode="External"/><Relationship Id="rId3" Type="http://schemas.openxmlformats.org/officeDocument/2006/relationships/hyperlink" Target="http://www.as.wvu.edu/~sbb/comm221/chapters/rf.htm" TargetMode="External"/><Relationship Id="rId4" Type="http://schemas.openxmlformats.org/officeDocument/2006/relationships/hyperlink" Target="http://www.scholarpedi.org/article/Reinforcements" TargetMode="External"/><Relationship Id="rId5" Type="http://schemas.openxmlformats.org/officeDocument/2006/relationships/hyperlink" Target="http://www.scholarpedi.org/article/Reinforcements" TargetMode="External"/><Relationship Id="rId6" Type="http://schemas.openxmlformats.org/officeDocument/2006/relationships/hyperlink" Target="http://www.scholarpedi.org/article/Reinforcements" TargetMode="External"/><Relationship Id="rId7" Type="http://schemas.openxmlformats.org/officeDocument/2006/relationships/hyperlink" Target="http://www.newfoundations.com/EGR/RewRein.html" TargetMode="External"/><Relationship Id="rId8" Type="http://schemas.openxmlformats.org/officeDocument/2006/relationships/hyperlink" Target="http://www.newfoundations.com/EGR/RewRein.html" TargetMode="External"/><Relationship Id="rId9" Type="http://schemas.openxmlformats.org/officeDocument/2006/relationships/hyperlink" Target="http://www.newfoundations.com/EGR/RewRein.html" TargetMode="External"/><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120160" cy="1890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rjorie Barne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DU 702.22</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all 2008</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ising student’s intelligence gives them a short burst of pride (“you must be smart at these problems”); rather, students must be praised for their effort (“you must have worked hard at these problems” or “I know it was a hard assignment, but you stuck to it and got it done”). Effort praised students will remain on task, confident, and eager (Dweck, 2007).</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different effects of reinforcement with different kind of students. Student with an external locus of control (those who believe that their actions are determined more by outside events and other people than themselves) perform better with tangible reinforcement than with verbal reinforcement. (Cotton,2008)</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ording to Wise (May 2008), the reinforcement is the process of shaping behavior by controlling the consequences of the behavior. In addition, individuals can choose from several responses to a given stimulus.</a:t>
            </a:r>
            <a:endParaRPr b="0" lang="en-US" sz="2400" spc="-1" strike="noStrike">
              <a:solidFill>
                <a:srgbClr val="000000"/>
              </a:solidFill>
              <a:latin typeface="Constantia"/>
            </a:endParaRPr>
          </a:p>
          <a:p>
            <a:pPr marL="248040" indent="-24804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11 theorist E.L. Thorndike developed the law of effect, it stated that, all things being equal, responses to stimuli that are followed by satisfaction will be strengthened, but response that are followed by discomfort will be weakened. This response has come to be known as the law of effect.  The law of effect states that behaviors that are followed by good consequences are likely to be repeated in the future. (As cited in Siegel, 200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ccording to Barnett (2007), B.F. Skinner a key contributor in the development of the reinforcement theory, stated that people can choose to exhibit certain behavior on what happens to them as a result of their behavior. “…behavior is followed by a consequence, and the </a:t>
            </a:r>
            <a:r>
              <a:rPr b="0" i="1" lang="en-US" sz="2600" spc="-1" strike="noStrike">
                <a:solidFill>
                  <a:srgbClr val="000000"/>
                </a:solidFill>
                <a:latin typeface="Constantia"/>
              </a:rPr>
              <a:t>nature of the consequence</a:t>
            </a:r>
            <a:r>
              <a:rPr b="0" lang="en-US" sz="2600" spc="-1" strike="noStrike">
                <a:solidFill>
                  <a:srgbClr val="000000"/>
                </a:solidFill>
                <a:latin typeface="Constantia"/>
              </a:rPr>
              <a:t> modifies the organism tendency to repeat the behavior in the future.” (B. F. Skinner N.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Research Hypothesis</a:t>
            </a:r>
            <a:endParaRPr b="0" lang="en-US" sz="5000" spc="-1" strike="noStrike">
              <a:solidFill>
                <a:srgbClr val="666666"/>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R1:  If praise can be just as effective as candy as a reinforcer, teachers with the proper implementation and continuity of praise can reduce or even eliminate candy as the primary reinforcer inside elementary classrooms.</a:t>
            </a:r>
            <a:endParaRPr b="0" lang="en-US" sz="2600" spc="-1" strike="noStrike">
              <a:solidFill>
                <a:srgbClr val="000000"/>
              </a:solidFill>
              <a:latin typeface="Constanti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Methods</a:t>
            </a:r>
            <a:endParaRPr b="0" lang="en-US" sz="5000" spc="-1" strike="noStrike">
              <a:solidFill>
                <a:srgbClr val="666666"/>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participants are 20 students in the District 75 special education school. </a:t>
            </a:r>
            <a:endParaRPr b="0" lang="en-US" sz="3200" spc="-1" strike="noStrike">
              <a:solidFill>
                <a:srgbClr val="000000"/>
              </a:solidFill>
              <a:latin typeface="Constantia"/>
            </a:endParaRPr>
          </a:p>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 of them are kindergartners, six of them are first graders, and 8 are third graders</a:t>
            </a:r>
            <a:endParaRPr b="0" lang="en-US" sz="32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lass has a staffing ratio of 12:1:1 (twelve students, one teacher, and one paraprofessional) and a staffing ratio of 8:1:1 (eight students, one teacher and one paraprofessional.</a:t>
            </a:r>
            <a:endParaRPr b="0" lang="en-US" sz="3200" spc="-1" strike="noStrike">
              <a:solidFill>
                <a:srgbClr val="000000"/>
              </a:solidFill>
              <a:latin typeface="Constantia"/>
            </a:endParaRPr>
          </a:p>
          <a:p>
            <a:pPr marL="272880" indent="-272880">
              <a:spcBef>
                <a:spcPts val="7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are from a Hispanic background and an African American background.</a:t>
            </a:r>
            <a:endParaRPr b="0" lang="en-US" sz="2800" spc="-1" strike="noStrike">
              <a:solidFill>
                <a:srgbClr val="000000"/>
              </a:solidFill>
              <a:latin typeface="Constantia"/>
            </a:endParaRPr>
          </a:p>
          <a:p>
            <a:pPr marL="272880" indent="-272880">
              <a:spcBef>
                <a:spcPts val="7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Instruments</a:t>
            </a:r>
            <a:endParaRPr b="0" lang="en-US" sz="5000" spc="-1" strike="noStrike">
              <a:solidFill>
                <a:srgbClr val="666666"/>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struments to be used are:</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ent forms</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rveys</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estionnaires</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k sheets</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s journal</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ecklist </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d search (to be used as a part of the reward process; it will be given after students have completed task)</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st</a:t>
            </a:r>
            <a:endParaRPr b="0" lang="en-US" sz="2400" spc="-1" strike="noStrike">
              <a:solidFill>
                <a:srgbClr val="000000"/>
              </a:solidFill>
              <a:latin typeface="Constantia"/>
            </a:endParaRPr>
          </a:p>
          <a:p>
            <a:pPr marL="256320" indent="-2563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Teacher Survey</a:t>
            </a:r>
            <a:endParaRPr b="0" lang="en-US" sz="5000" spc="-1" strike="noStrike">
              <a:solidFill>
                <a:srgbClr val="666666"/>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gender are you?</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Male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2)Female</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How experienced are you?</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1-2 years, (2)2-5 years, (3)5-10 years, (4)More than 10years </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at is the largest population of students do you teach?</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1)White, (2)Asian, (3)African-American, (4)Caribbean </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Questionnaires </a:t>
            </a:r>
            <a:endParaRPr b="0" lang="en-US" sz="5000" spc="-1" strike="noStrike">
              <a:solidFill>
                <a:srgbClr val="666666"/>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lease check one of the following boxes to indicate if you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 strongly agree, (3) agree, (2) disagree, or (1) strongly disagree with the following statements.</a:t>
            </a:r>
            <a:endParaRPr b="0" lang="en-US" sz="20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ising is my one of my main reinforcer</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use candy as my main reinforcer</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think praising would be a effective behavior modification for my classroom</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think praising in conjunction with candy reward is the only way to control the behaviors that exist with my classroo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Table of Contents</a:t>
            </a:r>
            <a:endParaRPr b="0" lang="en-US" sz="5000" spc="-1" strike="noStrike">
              <a:solidFill>
                <a:srgbClr val="666666"/>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oduction</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3</a:t>
            </a: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of the Problem</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10</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ew of Related Literature</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11</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of Hypothesi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16</a:t>
            </a:r>
            <a:endParaRPr b="0" lang="en-US" sz="24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a:t>
            </a:r>
            <a:endParaRPr b="0" lang="en-US" sz="26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icipant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17</a:t>
            </a:r>
            <a:endParaRPr b="0" lang="en-US" sz="24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ment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20</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ferences</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praise does not necessarily reinforce learning.</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eater achievement gains are noted when praise is delivered privately than when it is given public.</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eater achievements gains result when students are praised relatively to the performance of their classmates</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aising students who answer correctly in class discussion is often intrusive and distracting</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ising student may be embarrassing to the recipient. </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contingent praise is negativ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	</a:t>
            </a:r>
            <a:r>
              <a:rPr b="0" lang="en-US" sz="5000" spc="-1" strike="noStrike">
                <a:solidFill>
                  <a:srgbClr val="666666"/>
                </a:solidFill>
                <a:latin typeface="Calibri"/>
              </a:rPr>
              <a:t>	</a:t>
            </a:r>
            <a:r>
              <a:rPr b="0" lang="en-US" sz="5000" spc="-1" strike="noStrike">
                <a:solidFill>
                  <a:srgbClr val="666666"/>
                </a:solidFill>
                <a:latin typeface="Calibri"/>
              </a:rPr>
              <a:t>	</a:t>
            </a:r>
            <a:r>
              <a:rPr b="0" lang="en-US" sz="5000" spc="-1" strike="noStrike">
                <a:solidFill>
                  <a:srgbClr val="666666"/>
                </a:solidFill>
                <a:latin typeface="Calibri"/>
              </a:rPr>
              <a:t> </a:t>
            </a:r>
            <a:r>
              <a:rPr b="0" lang="en-US" sz="5000" spc="-1" strike="noStrike">
                <a:solidFill>
                  <a:srgbClr val="666666"/>
                </a:solidFill>
                <a:latin typeface="Calibri"/>
              </a:rPr>
              <a:t>References</a:t>
            </a:r>
            <a:endParaRPr b="0" lang="en-US" sz="5000" spc="-1" strike="noStrike">
              <a:solidFill>
                <a:srgbClr val="666666"/>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otton, K. (1988, May). Instructional reinforcement. </a:t>
            </a:r>
            <a:r>
              <a:rPr b="0" i="1" lang="en-US" sz="1200" spc="-1" strike="noStrike">
                <a:solidFill>
                  <a:srgbClr val="000000"/>
                </a:solidFill>
                <a:latin typeface="Constantia"/>
              </a:rPr>
              <a:t>School improvement research series </a:t>
            </a:r>
            <a:r>
              <a:rPr b="0" lang="en-US" sz="1200" spc="-1" strike="noStrike">
                <a:solidFill>
                  <a:srgbClr val="000000"/>
                </a:solidFill>
                <a:latin typeface="Constantia"/>
              </a:rPr>
              <a:t>(SIRS). Retrieved September 22, 2008, from </a:t>
            </a:r>
            <a:r>
              <a:rPr b="0" lang="en-US" sz="1200" spc="-1" strike="noStrike" u="sng">
                <a:solidFill>
                  <a:srgbClr val="17bbfd"/>
                </a:solidFill>
                <a:uFillTx/>
                <a:latin typeface="Constantia"/>
                <a:hlinkClick r:id="rId2"/>
              </a:rPr>
              <a:t>http://www.nwrel.org/scpd/sirs/2/cu3.html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Reinforcement theory. </a:t>
            </a:r>
            <a:r>
              <a:rPr b="0" lang="en-US" sz="1200" spc="-1" strike="noStrike">
                <a:solidFill>
                  <a:srgbClr val="000000"/>
                </a:solidFill>
                <a:latin typeface="Constantia"/>
              </a:rPr>
              <a:t>(1996, September). Retrieved September 22, 2008, from The Eberly College of Arts and Science Web site: </a:t>
            </a:r>
            <a:r>
              <a:rPr b="0" lang="en-US" sz="1200" spc="-1" strike="noStrike" u="sng">
                <a:solidFill>
                  <a:srgbClr val="17bbfd"/>
                </a:solidFill>
                <a:uFillTx/>
                <a:latin typeface="Constantia"/>
                <a:hlinkClick r:id="rId3"/>
              </a:rPr>
              <a:t>http://www.as.wvu.edu/~sbb/comm221/chapters/rf.htm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2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lumenfelf, S.L. (1999). </a:t>
            </a:r>
            <a:r>
              <a:rPr b="0" i="1" lang="en-US" sz="1200" spc="-1" strike="noStrike">
                <a:solidFill>
                  <a:srgbClr val="000000"/>
                </a:solidFill>
                <a:latin typeface="Constantia"/>
              </a:rPr>
              <a:t>NEA: Trojan horse in American education</a:t>
            </a:r>
            <a:r>
              <a:rPr b="0" lang="en-US" sz="1200" spc="-1" strike="noStrike">
                <a:solidFill>
                  <a:srgbClr val="000000"/>
                </a:solidFill>
                <a:latin typeface="Constantia"/>
              </a:rPr>
              <a:t>.</a:t>
            </a:r>
            <a:r>
              <a:rPr b="0" i="1" lang="en-US" sz="1200" spc="-1" strike="noStrike">
                <a:solidFill>
                  <a:srgbClr val="000000"/>
                </a:solidFill>
                <a:latin typeface="Constantia"/>
              </a:rPr>
              <a:t> </a:t>
            </a:r>
            <a:r>
              <a:rPr b="0" lang="en-US" sz="1200" spc="-1" strike="noStrike">
                <a:solidFill>
                  <a:srgbClr val="000000"/>
                </a:solidFill>
                <a:latin typeface="Constantia"/>
              </a:rPr>
              <a:t>Retrieved September 22,2008, from </a:t>
            </a:r>
            <a:r>
              <a:rPr b="0" lang="en-US" sz="1200" spc="-1" strike="noStrike" u="sng">
                <a:solidFill>
                  <a:srgbClr val="000000"/>
                </a:solidFill>
                <a:uFillTx/>
                <a:latin typeface="Constantia"/>
              </a:rPr>
              <a:t>http://www.sntp.net/behavorism.htm</a:t>
            </a:r>
            <a:r>
              <a:rPr b="0" lang="en-US" sz="1000" spc="-1" strike="noStrike" u="sng">
                <a:solidFill>
                  <a:srgbClr val="000000"/>
                </a:solidFill>
                <a:uFillTx/>
                <a:latin typeface="Constantia"/>
              </a:rPr>
              <a:t> </a:t>
            </a:r>
            <a:br>
              <a:rPr sz="1000"/>
            </a:br>
            <a:r>
              <a:rPr b="0" lang="en-US" sz="1000" spc="-1" strike="noStrike" u="sng">
                <a:solidFill>
                  <a:srgbClr val="000000"/>
                </a:solidFill>
                <a:uFillTx/>
                <a:latin typeface="Constantia"/>
              </a:rPr>
              <a:t> </a:t>
            </a:r>
            <a:endParaRPr b="0" lang="en-US" sz="10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ise, R. Dr., (2008, May 9). Reinforcement. </a:t>
            </a:r>
            <a:r>
              <a:rPr b="0" i="1" lang="en-US" sz="1200" spc="-1" strike="noStrike">
                <a:solidFill>
                  <a:srgbClr val="000000"/>
                </a:solidFill>
                <a:latin typeface="Constantia"/>
              </a:rPr>
              <a:t>Scholarpedia </a:t>
            </a:r>
            <a:r>
              <a:rPr b="0" lang="en-US" sz="1200" spc="-1" strike="noStrike">
                <a:solidFill>
                  <a:srgbClr val="000000"/>
                </a:solidFill>
                <a:latin typeface="Constantia"/>
              </a:rPr>
              <a:t>. Retrieved September 22, 2008, from </a:t>
            </a:r>
            <a:r>
              <a:rPr b="0" lang="en-US" sz="1200" spc="-1" strike="noStrike" u="sng">
                <a:solidFill>
                  <a:srgbClr val="17bbfd"/>
                </a:solidFill>
                <a:uFillTx/>
                <a:latin typeface="Constantia"/>
                <a:hlinkClick r:id="rId4"/>
              </a:rPr>
              <a:t>http://</a:t>
            </a:r>
            <a:r>
              <a:rPr b="0" lang="en-US" sz="1200" spc="-1" strike="noStrike" u="sng">
                <a:solidFill>
                  <a:srgbClr val="17bbfd"/>
                </a:solidFill>
                <a:uFillTx/>
                <a:latin typeface="Constantia"/>
                <a:hlinkClick r:id="rId5"/>
              </a:rPr>
              <a:t>www.scholarpedi.org</a:t>
            </a:r>
            <a:r>
              <a:rPr b="0" lang="en-US" sz="1200" spc="-1" strike="noStrike" u="sng">
                <a:solidFill>
                  <a:srgbClr val="17bbfd"/>
                </a:solidFill>
                <a:uFillTx/>
                <a:latin typeface="Constantia"/>
                <a:hlinkClick r:id="rId6"/>
              </a:rPr>
              <a:t>/article/Reinforcements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Rozycki, G., (2004, July 26). Reinforcers and voluntary behavior. </a:t>
            </a:r>
            <a:r>
              <a:rPr b="0" i="1" lang="en-US" sz="1200" spc="-1" strike="noStrike">
                <a:solidFill>
                  <a:srgbClr val="000000"/>
                </a:solidFill>
                <a:latin typeface="Constantia"/>
              </a:rPr>
              <a:t>New foundations. </a:t>
            </a:r>
            <a:r>
              <a:rPr b="0" lang="en-US" sz="1200" spc="-1" strike="noStrike">
                <a:solidFill>
                  <a:srgbClr val="000000"/>
                </a:solidFill>
                <a:latin typeface="Constantia"/>
              </a:rPr>
              <a:t>Retrieved September 22, 2008, from </a:t>
            </a:r>
            <a:r>
              <a:rPr b="0" lang="en-US" sz="1200" spc="-1" strike="noStrike" u="sng">
                <a:solidFill>
                  <a:srgbClr val="17bbfd"/>
                </a:solidFill>
                <a:uFillTx/>
                <a:latin typeface="Constantia"/>
                <a:hlinkClick r:id="rId7"/>
              </a:rPr>
              <a:t>http://</a:t>
            </a:r>
            <a:r>
              <a:rPr b="0" lang="en-US" sz="1200" spc="-1" strike="noStrike" u="sng">
                <a:solidFill>
                  <a:srgbClr val="17bbfd"/>
                </a:solidFill>
                <a:uFillTx/>
                <a:latin typeface="Constantia"/>
                <a:hlinkClick r:id="rId8"/>
              </a:rPr>
              <a:t>www.newfoundations.com/EGR/RewRein.html</a:t>
            </a:r>
            <a:r>
              <a:rPr b="0" lang="en-US" sz="1200" spc="-1" strike="noStrike" u="sng">
                <a:solidFill>
                  <a:srgbClr val="17bbfd"/>
                </a:solidFill>
                <a:uFillTx/>
                <a:latin typeface="Constantia"/>
                <a:hlinkClick r:id="rId9"/>
              </a:rPr>
              <a:t>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arnett, T. (2007). Reinforcement theory: Background and Development of Reinforcement theory. Retrieved September 22, 2008, http://www.refernceforbusiness.com/management/Pr-Sa/Reinforcement-Theory.html </a:t>
            </a:r>
            <a:br>
              <a:rPr sz="1200"/>
            </a:br>
            <a:r>
              <a:rPr b="0" i="1" lang="en-US" sz="1200" spc="-1" strike="noStrike">
                <a:solidFill>
                  <a:srgbClr val="000000"/>
                </a:solidFill>
                <a:latin typeface="Constantia"/>
              </a:rPr>
              <a:t>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onstantia"/>
              </a:rPr>
              <a:t>Siegel, Chelsea T. (2008, August) </a:t>
            </a:r>
            <a:r>
              <a:rPr b="0" i="1" lang="en-US" sz="1200" spc="-1" strike="noStrike">
                <a:solidFill>
                  <a:srgbClr val="000000"/>
                </a:solidFill>
                <a:latin typeface="Constantia"/>
              </a:rPr>
              <a:t>School-wide positive behavior support programs in elementary schools. </a:t>
            </a:r>
            <a:r>
              <a:rPr b="0" lang="en-US" sz="1200" spc="-1" strike="noStrike">
                <a:solidFill>
                  <a:srgbClr val="000000"/>
                </a:solidFill>
                <a:latin typeface="Constantia"/>
              </a:rPr>
              <a:t>Online submission.38pp. School of education Dominican University of California. Retrieved September 29, 2008 from http://web.ebscohost.com/ehost/detail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tantia"/>
              </a:rPr>
              <a:t>Kauffman, J., Conroy, M., Gardner, R. III, &amp; Oswald, D. (2008, April). </a:t>
            </a:r>
            <a:r>
              <a:rPr b="0" lang="en-US" sz="1200" spc="-1" strike="noStrike">
                <a:solidFill>
                  <a:srgbClr val="000000"/>
                </a:solidFill>
                <a:latin typeface="Constantia"/>
              </a:rPr>
              <a:t>Cultural sensitivity in the application of behavior principle to education. </a:t>
            </a:r>
            <a:r>
              <a:rPr b="0" i="1" lang="en-US" sz="1200" spc="-1" strike="noStrike">
                <a:solidFill>
                  <a:srgbClr val="000000"/>
                </a:solidFill>
                <a:latin typeface="Constantia"/>
              </a:rPr>
              <a:t>Education and Treatment of Children, </a:t>
            </a:r>
            <a:r>
              <a:rPr b="0" lang="en-US" sz="1200" spc="-1" strike="noStrike">
                <a:solidFill>
                  <a:srgbClr val="000000"/>
                </a:solidFill>
                <a:latin typeface="Constantia"/>
              </a:rPr>
              <a:t>31, 239-262. Retrieved September 29, 2008 from http://web.ebscohost.com/ehost/detail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weck, Carol S. (2007, October). </a:t>
            </a:r>
            <a:r>
              <a:rPr b="0" i="1" lang="en-US" sz="1200" spc="-1" strike="noStrike">
                <a:solidFill>
                  <a:srgbClr val="000000"/>
                </a:solidFill>
                <a:latin typeface="Constantia"/>
              </a:rPr>
              <a:t>The perils: The wrong kind of praise creates self-defeating behavior. The right kind motivates students to learn. </a:t>
            </a:r>
            <a:r>
              <a:rPr b="0" lang="en-US" sz="1200" spc="-1" strike="noStrike">
                <a:solidFill>
                  <a:srgbClr val="000000"/>
                </a:solidFill>
                <a:latin typeface="Constantia"/>
              </a:rPr>
              <a:t>Stanford University. Educational Leadership. Retrieved September 29, 2008 from http://web.ebscohost.com/ehost/detail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lnSpc>
                <a:spcPct val="80000"/>
              </a:lnSpc>
              <a:spcBef>
                <a:spcPts val="2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cott, T.M., Anderson, C.M., &amp; Spaulding S.A (2008). Strategies for developing and carrying out functional assessment and behavior intervention planning. </a:t>
            </a:r>
            <a:r>
              <a:rPr b="0" i="1" lang="en-US" sz="1200" spc="-1" strike="noStrike">
                <a:solidFill>
                  <a:srgbClr val="000000"/>
                </a:solidFill>
                <a:latin typeface="Constantia"/>
              </a:rPr>
              <a:t>Preventing School Failure, </a:t>
            </a:r>
            <a:r>
              <a:rPr b="0" lang="en-US" sz="1200" spc="-1" strike="noStrike">
                <a:solidFill>
                  <a:srgbClr val="000000"/>
                </a:solidFill>
                <a:latin typeface="Constantia"/>
              </a:rPr>
              <a:t>52, 39-49. Retrieved September 29, 2008 from http://web.ebscohost.com/ehost/detail </a:t>
            </a:r>
            <a:br>
              <a:rPr sz="800"/>
            </a:br>
            <a:r>
              <a:rPr b="0" lang="en-US" sz="800" spc="-1" strike="noStrike">
                <a:solidFill>
                  <a:srgbClr val="000000"/>
                </a:solidFill>
                <a:latin typeface="Constantia"/>
              </a:rPr>
              <a:t> </a:t>
            </a:r>
            <a:endParaRPr b="0" lang="en-US" sz="800" spc="-1" strike="noStrike">
              <a:solidFill>
                <a:srgbClr val="000000"/>
              </a:solidFill>
              <a:latin typeface="Constantia"/>
            </a:endParaRPr>
          </a:p>
          <a:p>
            <a:pPr marL="250920" indent="-250920">
              <a:lnSpc>
                <a:spcPct val="80000"/>
              </a:lnSpc>
              <a:spcBef>
                <a:spcPts val="2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uckholdt, D.R. &amp; Ferritor, D.E. (1974). Effect of token reinforcement on two attending behaviors of adults in a continuing education program. </a:t>
            </a:r>
            <a:r>
              <a:rPr b="0" i="1" lang="en-US" sz="1200" spc="-1" strike="noStrike">
                <a:solidFill>
                  <a:srgbClr val="000000"/>
                </a:solidFill>
                <a:latin typeface="Constantia"/>
              </a:rPr>
              <a:t>Adult Education Quarterly,</a:t>
            </a:r>
            <a:r>
              <a:rPr b="0" lang="en-US" sz="1200" spc="-1" strike="noStrike">
                <a:solidFill>
                  <a:srgbClr val="000000"/>
                </a:solidFill>
                <a:latin typeface="Constantia"/>
              </a:rPr>
              <a:t> 24, 208-219. Retrieved October 7, 2008, from SAGE database. </a:t>
            </a: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homas, S.M. (1973). Using reinforcement and social modeling with delinquent youth.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3, 323-340. Retrieved October 7, 2008, from SAGE database. </a:t>
            </a: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yans, D.G, Travers, R.M.W., Reid, I.E., &amp; Van Wagenen, R.K. (1964). Research on reinforcement and its implication for education. </a:t>
            </a:r>
            <a:r>
              <a:rPr b="0" i="1" lang="en-US" sz="1200" spc="-1" strike="noStrike">
                <a:solidFill>
                  <a:srgbClr val="000000"/>
                </a:solidFill>
                <a:latin typeface="Constantia"/>
              </a:rPr>
              <a:t>Journal of Teacher Education,</a:t>
            </a:r>
            <a:r>
              <a:rPr b="0" lang="en-US" sz="1200" spc="-1" strike="noStrike">
                <a:solidFill>
                  <a:srgbClr val="000000"/>
                </a:solidFill>
                <a:latin typeface="Constantia"/>
              </a:rPr>
              <a:t> 15, 223-227. Retrieved October 7, 2008, from SAGE database. </a:t>
            </a: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ameron, J. &amp; Pierce, W.D. (1994). Reinforcement, reward, and Intrinsic Motivation: A meta-analysis.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64, 363-394. Retrieved October 7, 2008, from the SAGE database. </a:t>
            </a: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old, D.C. &amp; Windsor, R.E. (1981). Student management through incentives- Positive reinforcement. </a:t>
            </a:r>
            <a:r>
              <a:rPr b="0" i="1" lang="en-US" sz="1200" spc="-1" strike="noStrike">
                <a:solidFill>
                  <a:srgbClr val="000000"/>
                </a:solidFill>
                <a:latin typeface="Constantia"/>
              </a:rPr>
              <a:t>NASSP Bulletin,</a:t>
            </a:r>
            <a:r>
              <a:rPr b="0" lang="en-US" sz="1200" spc="-1" strike="noStrike">
                <a:solidFill>
                  <a:srgbClr val="000000"/>
                </a:solidFill>
                <a:latin typeface="Constantia"/>
              </a:rPr>
              <a:t> 65, 46-59. Retrieved October 7, 2008, from the SAGE database. </a:t>
            </a:r>
            <a:br>
              <a:rPr sz="1200"/>
            </a:br>
            <a:r>
              <a:rPr b="0" lang="en-US" sz="1200" spc="-1" strike="noStrike">
                <a:solidFill>
                  <a:srgbClr val="000000"/>
                </a:solidFill>
                <a:latin typeface="Constantia"/>
              </a:rPr>
              <a:t>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rth, R. (1979).  Home-based reinforcement of school behavior: A review and analysis.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9, 436-458.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es, J. A.  (1979). Extrinsic reward and intrinsic motivation: A review with implications for the classroom.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9, 557-576.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rgan, M.  (1984). Reward-induced decrements and Increments in intrinsic motivation.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54, 5-30.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rophy, J. (1981).  Teacher praise: A functional analysis.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51, 5-32.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tantia"/>
              </a:rPr>
              <a:t>Schultz, C. B. &amp; Sherman, R. H. (1976). </a:t>
            </a:r>
            <a:r>
              <a:rPr b="0" lang="en-US" sz="1200" spc="-1" strike="noStrike">
                <a:solidFill>
                  <a:srgbClr val="000000"/>
                </a:solidFill>
                <a:latin typeface="Constantia"/>
              </a:rPr>
              <a:t>Social class, development, and differences in reinforcer effectiveness.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6, 25-59.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rringer, C. &amp; Gholson, B (1979). Effects of type and combination of feedback upon conceptual learning: Implications for research in academic learning.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9, 459-478. Retrieved November 13, 2008, from the SAGE database. </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tantia"/>
              </a:rPr>
              <a:t>Lipe, D. &amp; Jung, S.M. (1971). </a:t>
            </a:r>
            <a:r>
              <a:rPr b="0" lang="en-US" sz="1200" spc="-1" strike="noStrike">
                <a:solidFill>
                  <a:srgbClr val="000000"/>
                </a:solidFill>
                <a:latin typeface="Constantia"/>
              </a:rPr>
              <a:t>Manipulating incentives to enhance school learning.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1, 249-277. Retrieved November 13, 2008, from the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5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icheals, J.W. (1977). Classroom reward structures and Academic Performance.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7, 87-89. Retrieved November 13, 2008, from the SAGE database</a:t>
            </a:r>
            <a:endParaRPr b="0" lang="en-US" sz="1200" spc="-1" strike="noStrike">
              <a:solidFill>
                <a:srgbClr val="000000"/>
              </a:solidFill>
              <a:latin typeface="Constantia"/>
            </a:endParaRPr>
          </a:p>
          <a:p>
            <a:pPr marL="272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oates, T. &amp; Thoresen, C.E. (1979). Behavioral self-control and educational practice or do we really need self-control? </a:t>
            </a:r>
            <a:r>
              <a:rPr b="0" i="1" lang="en-US" sz="1400" spc="-1" strike="noStrike">
                <a:solidFill>
                  <a:srgbClr val="000000"/>
                </a:solidFill>
                <a:latin typeface="Constantia"/>
              </a:rPr>
              <a:t>Review of Educational Research,</a:t>
            </a:r>
            <a:r>
              <a:rPr b="0" lang="en-US" sz="1400" spc="-1" strike="noStrike">
                <a:solidFill>
                  <a:srgbClr val="000000"/>
                </a:solidFill>
                <a:latin typeface="Constantia"/>
              </a:rPr>
              <a:t> 7, 3-17. Retrieved November 13, 2008, from the SAGE database</a:t>
            </a:r>
            <a:endParaRPr b="0" lang="en-US" sz="1400" spc="-1" strike="noStrike">
              <a:solidFill>
                <a:srgbClr val="000000"/>
              </a:solidFill>
              <a:latin typeface="Constantia"/>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spcBef>
                <a:spcPts val="45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tantia"/>
              </a:rPr>
              <a:t>Glickman, C. D. &amp; Wolfgang, C.H. (1979). </a:t>
            </a:r>
            <a:r>
              <a:rPr b="0" lang="en-US" sz="1400" spc="-1" strike="noStrike">
                <a:solidFill>
                  <a:srgbClr val="000000"/>
                </a:solidFill>
                <a:latin typeface="Constantia"/>
              </a:rPr>
              <a:t>Dealing with student misbehavior: An Eclectic review. </a:t>
            </a:r>
            <a:r>
              <a:rPr b="0" i="1" lang="en-US" sz="1400" spc="-1" strike="noStrike">
                <a:solidFill>
                  <a:srgbClr val="000000"/>
                </a:solidFill>
                <a:latin typeface="Constantia"/>
              </a:rPr>
              <a:t>Journal of teacher education</a:t>
            </a:r>
            <a:r>
              <a:rPr b="0" lang="en-US" sz="1400" spc="-1" strike="noStrike">
                <a:solidFill>
                  <a:srgbClr val="000000"/>
                </a:solidFill>
                <a:latin typeface="Constantia"/>
              </a:rPr>
              <a:t>, 30, 7-13. Retrieved November 13, 2008, from the SAGE database. </a:t>
            </a:r>
            <a:br>
              <a:rPr sz="1800"/>
            </a:br>
            <a:br>
              <a:rPr sz="1800"/>
            </a:b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Introduction</a:t>
            </a:r>
            <a:endParaRPr b="0" lang="en-US" sz="5000" spc="-1" strike="noStrike">
              <a:solidFill>
                <a:srgbClr val="666666"/>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ndy is the main reinforcer used inside the elementary classroom to manage the behavior problems. </a:t>
            </a:r>
            <a:endParaRPr b="0" lang="en-US" sz="3200" spc="-1" strike="noStrike">
              <a:solidFill>
                <a:srgbClr val="000000"/>
              </a:solidFill>
              <a:latin typeface="Constantia"/>
            </a:endParaRPr>
          </a:p>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eachers start out with other token or symbolic rewards such as stars, coupons, and play money but in the end use candies.</a:t>
            </a:r>
            <a:endParaRPr b="0" lang="en-US" sz="3200" spc="-1" strike="noStrike">
              <a:solidFill>
                <a:srgbClr val="000000"/>
              </a:solidFill>
              <a:latin typeface="Constanti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fifth grade classroom I witnessed the token start-out. Students were rewarded play money for completing homework assignments and for their behavior inside and outside of the classroom, but the end result was that they added it up to purchase candy at the class shop.</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n art room, if students earned coupon (s) during the art prep then they get to claim a reward for the candy box after they have accumulated five coupons.</a:t>
            </a:r>
            <a:endParaRPr b="0" lang="en-US" sz="2600" spc="-1" strike="noStrike">
              <a:solidFill>
                <a:srgbClr val="000000"/>
              </a:solidFill>
              <a:latin typeface="Constanti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kindergarten class I have witnessed the symbolic reward start-out.  Each student gets a star for their behavior throughout the day. If students earn five stars during the course of the day, then they get a reward from the prize box, which is full of candies.</a:t>
            </a:r>
            <a:endParaRPr b="0" lang="en-US" sz="2600" spc="-1" strike="noStrike">
              <a:solidFill>
                <a:srgbClr val="000000"/>
              </a:solidFill>
              <a:latin typeface="Constantia"/>
            </a:endParaRPr>
          </a:p>
        </p:txBody>
      </p:sp>
      <p:pic>
        <p:nvPicPr>
          <p:cNvPr id="212" name="Picture 7" descr="C:\Users\Missery\AppData\Local\Microsoft\Windows\Temporary Internet Files\Content.IE5\HA1MLQ01\MPj04384470000[1].jpg"/>
          <p:cNvPicPr/>
          <p:nvPr/>
        </p:nvPicPr>
        <p:blipFill>
          <a:blip r:embed="rId1"/>
          <a:stretch/>
        </p:blipFill>
        <p:spPr>
          <a:xfrm>
            <a:off x="1371600" y="4572000"/>
            <a:ext cx="6407280" cy="17524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ditionally schools have used punishment to deter students from unwanted behavior, but this consequence behavior system has been proven ineffective. (Siegel, 2008). </a:t>
            </a:r>
            <a:endParaRPr b="0" lang="en-US" sz="2400" spc="-1" strike="noStrike">
              <a:solidFill>
                <a:srgbClr val="000000"/>
              </a:solidFill>
              <a:latin typeface="Constantia"/>
            </a:endParaRPr>
          </a:p>
          <a:p>
            <a:pPr marL="272880" indent="-27288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ording to the Families and Advocates Partnership for Education “punishment is one of the least effective responses to problems behaviors” (As cited in Siegel, 2008)</a:t>
            </a:r>
            <a:endParaRPr b="0" lang="en-US" sz="2400" spc="-1" strike="noStrike">
              <a:solidFill>
                <a:srgbClr val="000000"/>
              </a:solidFill>
              <a:latin typeface="Constantia"/>
            </a:endParaRPr>
          </a:p>
          <a:p>
            <a:pPr marL="272880" indent="-27288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w, many teachers in compliance with the Department of Education have implemented positive reinforcement systems in their classrooms. </a:t>
            </a:r>
            <a:endParaRPr b="0" lang="en-US" sz="2400" spc="-1" strike="noStrike">
              <a:solidFill>
                <a:srgbClr val="000000"/>
              </a:solidFill>
              <a:latin typeface="Constantia"/>
            </a:endParaRPr>
          </a:p>
          <a:p>
            <a:pPr marL="272880" indent="-27288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itive reinforcement by definition is increasing in the frequency of a preferred behavior due to the addition of a stimulus and according to Skinner (1937) positive reinforcement is more effective at changing and establishing preferred behavior than punishment.</a:t>
            </a:r>
            <a:endParaRPr b="0" lang="en-US" sz="2400" spc="-1" strike="noStrike">
              <a:solidFill>
                <a:srgbClr val="000000"/>
              </a:solidFill>
              <a:latin typeface="Constantia"/>
            </a:endParaRPr>
          </a:p>
          <a:p>
            <a:pPr marL="250920" indent="-2509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fore many teachers have chosen to use reinforcers such as candies, stars, free-time, etc to increase preferred classroom behaviors.</a:t>
            </a:r>
            <a:endParaRPr b="0" lang="en-US" sz="2400" spc="-1" strike="noStrike">
              <a:solidFill>
                <a:srgbClr val="000000"/>
              </a:solidFill>
              <a:latin typeface="Constantia"/>
            </a:endParaRPr>
          </a:p>
          <a:p>
            <a:pPr marL="250920" indent="-2509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 what makes the candy such as a powerful or more prevalent reinforcer used in the classroom by elementary school teachers?</a:t>
            </a:r>
            <a:endParaRPr b="0" lang="en-US" sz="24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 </a:t>
            </a:r>
            <a:r>
              <a:rPr b="0" lang="en-US" sz="5000" spc="-1" strike="noStrike">
                <a:solidFill>
                  <a:srgbClr val="666666"/>
                </a:solidFill>
                <a:latin typeface="Calibri"/>
              </a:rPr>
              <a:t>Statement of the Problem</a:t>
            </a:r>
            <a:endParaRPr b="0" lang="en-US" sz="5000" spc="-1" strike="noStrike">
              <a:solidFill>
                <a:srgbClr val="666666"/>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will compare two positive reinforcers – candy and praise. </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my reading, I have discovered that praise can be just as effective as tangible rewards. So, why haven’t elementary teachers eliminated the use of candy as </a:t>
            </a:r>
            <a:r>
              <a:rPr b="0" i="1" lang="en-US" sz="2600" spc="-1" strike="noStrike">
                <a:solidFill>
                  <a:srgbClr val="000000"/>
                </a:solidFill>
                <a:latin typeface="Constantia"/>
              </a:rPr>
              <a:t>the reinforcer</a:t>
            </a:r>
            <a:r>
              <a:rPr b="0" lang="en-US" sz="2600" spc="-1" strike="noStrike">
                <a:solidFill>
                  <a:srgbClr val="000000"/>
                </a:solidFill>
                <a:latin typeface="Constantia"/>
              </a:rPr>
              <a:t> and take greater measures to implement the praise reward?  </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Review of the Literature</a:t>
            </a:r>
            <a:endParaRPr b="0" lang="en-US" sz="5000" spc="-1" strike="noStrike">
              <a:solidFill>
                <a:srgbClr val="666666"/>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alleged effect of reinforcement is that it undermines intrinsic interest in task; however findings show that verbal praise produces and increase intrinsic motivation. The only negative effect appears when expected tangible rewards are given to individual simply for doing a task (Cameron &amp; Pierce, 1994). </a:t>
            </a:r>
            <a:endParaRPr b="0" lang="en-US" sz="3200" spc="-1" strike="noStrike">
              <a:solidFill>
                <a:srgbClr val="000000"/>
              </a:solidFill>
              <a:latin typeface="Constantia"/>
            </a:endParaRPr>
          </a:p>
          <a:p>
            <a:pPr marL="264600" indent="-26460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20:37:29Z</dcterms:created>
  <dc:creator>Missery</dc:creator>
  <dc:description/>
  <dc:language>en-US</dc:language>
  <cp:lastModifiedBy>0b-21</cp:lastModifiedBy>
  <dcterms:modified xsi:type="dcterms:W3CDTF">2008-12-11T22:05:50Z</dcterms:modified>
  <cp:revision>50</cp:revision>
  <dc:subject/>
  <dc:title>Slide 1</dc:title>
</cp:coreProperties>
</file>